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4DD-BD0E-41FB-816D-C8BF0AD1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380-0140-4D84-A52F-8E30014B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109-C317-4BC2-9B7A-ED7C4C2C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0D4-6FC8-4837-B014-67DB8478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4FDF7-90DC-4390-91C8-8026D784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F9B01-F846-4D8F-BDB4-CF527A39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9595A-C887-40A1-A76E-D65B180F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1C099-4719-4378-8485-B52C5815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82964-BCED-42B3-8010-5A216D5A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543E0-4CAD-43E8-A50E-491906FE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F96F5-F4BA-4874-83A9-0AE0A4CD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32BB-E1C3-49D4-8595-9605771E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A4DFA-E911-405D-A813-24CB4ABB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9B57A-3BBF-44C2-826B-E38B5D75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4D590-B282-4371-A0B4-0FC63AD4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65EF1-8784-4324-B586-F4E2A44A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598D9-691C-4CEB-B76F-9E518B57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0CA-1A17-4832-BCD3-FF8001F3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0BC-8CE8-43E8-823C-00D5CA33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37E-EB0C-4233-8CAC-1E6643AE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4A2E-70D2-48FC-8079-CB05A074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FA61-3FA6-4422-B67C-D4EF994B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B2C-0E2C-46AB-8694-4ED58562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1E8-35AC-4D00-BF9C-06DCDCF9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B1D7-B2FC-44A2-97D8-3675F6FD1479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2BEE-D2FD-4E76-A526-9015B7538906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t.wikipedia.org/wiki/Terra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cola Estadual Senador Filinto Müller Extensã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ndra e Paul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vimentos da Ter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Os </a:t>
            </a:r>
            <a:r>
              <a:rPr b="1" lang="pt-PT" sz="3200" spc="-1" strike="noStrike">
                <a:solidFill>
                  <a:srgbClr val="ffffff"/>
                </a:solidFill>
                <a:latin typeface="Tahoma"/>
              </a:rPr>
              <a:t>movimentos da </a:t>
            </a:r>
            <a:r>
              <a:rPr b="0" lang="pt-PT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Terra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 são os movimentos </a:t>
            </a:r>
            <a:r>
              <a:rPr b="1" lang="pt-PT" sz="3200" spc="-1" strike="noStrike">
                <a:solidFill>
                  <a:srgbClr val="ffffff"/>
                </a:solidFill>
                <a:latin typeface="Tahoma"/>
              </a:rPr>
              <a:t>simultâneos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 realizados pela Terra no espaço. Existem ao todo cinco movimentos principa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taçã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ahoma"/>
              </a:rPr>
              <a:t>Rotação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 - A Terra gira em torno de si mesma, em torno de seu eixo imaginário. A duração da rotação é de 24 hor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nslaçã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ahoma"/>
              </a:rPr>
              <a:t>Translação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 - é o movimento que a Terra executa ao redor do Sol; leva um tempo total aproximado de 365 dias e 6 horas até que se complete um ano.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FIM ....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8:29:40Z</dcterms:created>
  <dc:creator>aluno</dc:creator>
  <dc:description/>
  <dc:language>en-US</dc:language>
  <cp:lastModifiedBy>aluno</cp:lastModifiedBy>
  <dcterms:modified xsi:type="dcterms:W3CDTF">2010-08-25T18:53:11Z</dcterms:modified>
  <cp:revision>3</cp:revision>
  <dc:subject/>
  <dc:title>Escola Estadual Senador Filinto Müller Extensão </dc:title>
</cp:coreProperties>
</file>